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784-86B0-4C15-A7CC-305FBE4A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5B7-9EC0-427F-99D6-32BF21B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AA4-69B3-4E42-BDDD-9FA20BA7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99-416B-437D-A883-9EC15E6B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07BF-0791-4C06-A82C-93F4459F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DC75-BBF8-4330-B686-C9B4A47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912-80C4-4F9A-A2DD-F0C255F6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C47-60D2-4EAD-8F74-6E58330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AE38-C4F3-4868-B536-F8AF0B61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599-2901-4BC7-B62F-3C4D3A80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E96-CCBF-4FF1-834C-16684BC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B4A-8AD8-498D-B473-6FADDFB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57B8-B429-452B-A34D-52E94170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A46-EEB9-4A4F-B1B6-7A9C2E0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2FB-35BE-4B9F-92D2-E0E90343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025-73D5-4346-AD6C-278DA78F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01BC-B7E8-4BC7-A7B0-1EA72B36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9AF-3516-4B67-BF78-D22A0405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298-7001-4934-A706-D42DFE95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F8B-574E-47B4-9318-D8185353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BC2-682A-481E-9DC6-1B9104A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E57-C18C-4371-96A9-859C319C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808-76BA-4E44-8FEC-5CE40CF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56F-C227-4851-98A5-AEB87AA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27F-CA41-49C0-8831-197F80C794A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C495-1A65-4AC0-A1CB-C24A3D43FD8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Day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unio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c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 8/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writing 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ok at the following image and create a story that takes place there. Your story must follow the gothic tradition, make it creepy and scary. You must use one example of personific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 will be looking at your descriptive sentences and if you added gothic element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5:03:53Z</dcterms:created>
  <dc:creator>VMS</dc:creator>
  <dc:description/>
  <dc:language>en-US</dc:language>
  <cp:lastModifiedBy>VMS</cp:lastModifiedBy>
  <dcterms:modified xsi:type="dcterms:W3CDTF">2009-08-27T19:46:07Z</dcterms:modified>
  <cp:revision>2</cp:revision>
  <dc:subject/>
  <dc:title>English Day 8</dc:title>
</cp:coreProperties>
</file>